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529C-2E1A-4F6D-BF1A-985D77BE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0655-0196-47D5-8A09-FA7058D6B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890-847A-4773-A057-5C50132A9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97D-C89F-475B-B636-C7363AD37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2A1-E060-4E7A-868E-1232682621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754A-96F7-425D-BBD5-78C98A584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3D3E-23E8-42E1-B872-E190F3CF1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502-9433-4644-A3C6-19FD3DE38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A57-CB33-4BC7-8344-1BD61DBB2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776-BD75-4711-A1B1-CF8722A94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99D6-309F-4799-8475-6F6E8EE3A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0B23-DA49-41DA-B492-02D0877701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F9A7-FA63-4C81-B853-58A6E9C6D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8D49-178E-4B3A-8428-8BFF428C2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38D4-2F3A-45F5-9EFA-7CF2D61D5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81E-943E-43FE-812E-F7165F3E5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303-A4AB-45C3-92ED-9D62BCD8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5DA-C6C4-4EF7-B188-A1CA3486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F7D-18AB-4965-8E78-5308B461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00F-C72E-4D1C-AC9E-3BE1E8D1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5EC-E44F-4AFE-9C39-88A9641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E2E-FD18-42D4-B8B9-8C3B0CED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298-5175-4FEA-9109-9E5E7F91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ADE-0CA4-4324-B82D-78D96FF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66D-6BD4-4832-BA76-A71A9016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41C-0D67-4981-AD45-FFB17A8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6A6-7E0C-471E-8580-F3718D8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B2C-5AF5-4D90-9C2C-E61495A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14CE-302C-4810-81A8-7135B81C1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10K_ILT_Bkgd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121-23A1-4584-91AC-C6C4506C50F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resources/MY09/ppts/ResourceGraphic-5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resources/MY09/ppts/ResourceGraphic-5.ppt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resources/MY09/ppts/ResourceGraphic-5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од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9 (MY09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ок службы мас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ок службы фильт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е АКП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а доступна 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/4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262400" y="1517760"/>
            <a:ext cx="4686480" cy="456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Picture 13" descr="swfButton.png"/>
          <p:cNvPicPr/>
          <p:nvPr/>
        </p:nvPicPr>
        <p:blipFill>
          <a:blip r:embed="rId3"/>
          <a:stretch/>
        </p:blipFill>
        <p:spPr>
          <a:xfrm>
            <a:off x="18669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swfButton.png"/>
          <p:cNvPicPr/>
          <p:nvPr/>
        </p:nvPicPr>
        <p:blipFill>
          <a:blip r:embed="rId4"/>
          <a:stretch/>
        </p:blipFill>
        <p:spPr>
          <a:xfrm>
            <a:off x="30751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остояния АКП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489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износ муфт превышает допустимые зна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использует адаптационную информац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слеживает муфты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является ко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TC P278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Clutch Adaptive Learning At Limit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4"/>
          <a:stretch/>
        </p:blipFill>
        <p:spPr>
          <a:xfrm>
            <a:off x="6016680" y="1517760"/>
            <a:ext cx="2609640" cy="414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Диагностика и перезагрузка Переключа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1760" y="1314360"/>
            <a:ext cx="4019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ереключатели могут показывать информацию о прогностик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кнопочных переключателях, нажмите стрелки вверх и вниз одновремен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рычажном нажмите диагностическую кноп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запрограмированно, Срок службы Масла и Фильтров может быть перезагруж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огут быть перезагружены кнопко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всех АКПП может быть перезагружены определенными последовательностя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865760" y="1855800"/>
            <a:ext cx="3809880" cy="3046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TextBox 10"/>
          <p:cNvSpPr/>
          <p:nvPr/>
        </p:nvSpPr>
        <p:spPr>
          <a:xfrm>
            <a:off x="5346720" y="1562040"/>
            <a:ext cx="351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Reset only allowed if programm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781520" y="4935600"/>
            <a:ext cx="205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NOTE: Transmission Health Monitor resets automatically when appropriate conditions are detected and can only be manually reset using Allison DOC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6946920" y="4937040"/>
            <a:ext cx="2055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NOTE: 3000/4000 Product Families Filter Life Monitor resets automatically when appropriate conditions are det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swfButton.png"/>
          <p:cNvPicPr/>
          <p:nvPr/>
        </p:nvPicPr>
        <p:blipFill>
          <a:blip r:embed="rId3"/>
          <a:stretch/>
        </p:blipFill>
        <p:spPr>
          <a:xfrm>
            <a:off x="1855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swfButton.png"/>
          <p:cNvPicPr/>
          <p:nvPr/>
        </p:nvPicPr>
        <p:blipFill>
          <a:blip r:embed="rId4"/>
          <a:stretch/>
        </p:blipFill>
        <p:spPr>
          <a:xfrm>
            <a:off x="31194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swfButton.png"/>
          <p:cNvPicPr/>
          <p:nvPr/>
        </p:nvPicPr>
        <p:blipFill>
          <a:blip r:embed="rId5"/>
          <a:stretch/>
        </p:blipFill>
        <p:spPr>
          <a:xfrm>
            <a:off x="43927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Диагностики и перезагрузка переключа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71320" y="1314360"/>
            <a:ext cx="3966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следовательность для перезагрузки на всех АКП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N D N D N R N to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ерезагрузка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Oil Life Monito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N R N R N D N to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ерезагрузка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Filter Life Monito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N D N R N D N R N D N R N to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включает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 выключает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у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Начав переключение не делайте паузы более 3 секунд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Проводите перезагрузку с включенным зажиганием и незаведённым двигателем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на долю секунды чтобы показать что перезагрузка прошла успешно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538520" y="1714680"/>
            <a:ext cx="4381560" cy="4046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llison DOC™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27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нные в окне Прогност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il Life Monitor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меет значения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%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-100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lter Life Monitor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меет значени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es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mission Health Monitor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ображае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OK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NOT OK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каждую муфт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три характеристики могут быть перезагружены Запросом на Действ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tion Request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4143240" y="1517760"/>
            <a:ext cx="4902480" cy="434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swfButton.png"/>
          <p:cNvPicPr/>
          <p:nvPr/>
        </p:nvPicPr>
        <p:blipFill>
          <a:blip r:embed="rId3"/>
          <a:stretch/>
        </p:blipFill>
        <p:spPr>
          <a:xfrm>
            <a:off x="1855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swfButton.png"/>
          <p:cNvPicPr/>
          <p:nvPr/>
        </p:nvPicPr>
        <p:blipFill>
          <a:blip r:embed="rId4"/>
          <a:stretch/>
        </p:blipFill>
        <p:spPr>
          <a:xfrm>
            <a:off x="3139920" y="6172200"/>
            <a:ext cx="1333800" cy="285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swfButton.png"/>
          <p:cNvPicPr/>
          <p:nvPr/>
        </p:nvPicPr>
        <p:blipFill>
          <a:blip r:embed="rId5"/>
          <a:stretch/>
        </p:blipFill>
        <p:spPr>
          <a:xfrm>
            <a:off x="44038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3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llison DOC™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27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а включа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ключает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Reprogrammin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ункци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143240" y="1517760"/>
            <a:ext cx="4902480" cy="4348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3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Дополнительные</a:t>
            </a: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 MY09 </a:t>
            </a: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344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1939/J158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зволяют производителю отключать неиспользуемые параметр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0" y="1517760"/>
            <a:ext cx="4362480" cy="3819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личие сервисного индика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это значок «ключа» на переключат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ом служит лампочка или текстовое сообщение на приборной пане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262400" y="1517760"/>
            <a:ext cx="4686480" cy="456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Обновления в системе Про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/2000/3000/4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ют обновленные ТСМ и калибров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хема проводки так же была измен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ют обновленные переключатели блок клап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354560" y="2008080"/>
            <a:ext cx="4648320" cy="394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swfButton.png"/>
          <p:cNvPicPr/>
          <p:nvPr/>
        </p:nvPicPr>
        <p:blipFill>
          <a:blip r:embed="rId3"/>
          <a:stretch/>
        </p:blipFill>
        <p:spPr>
          <a:xfrm>
            <a:off x="18669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317840" y="1932120"/>
            <a:ext cx="174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Filter Life Indicator Valv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Body and Pressure Sw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Channel Plate and Gas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Main Valve 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Internal Wiring Har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olenoid 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 flipH="1">
            <a:off x="4919760" y="4245120"/>
            <a:ext cx="473040" cy="88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5177520" y="1647720"/>
            <a:ext cx="28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3000/4000 Control  Valve Body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4510800" y="5127480"/>
            <a:ext cx="131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ervice Indi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6489720" y="5977080"/>
            <a:ext cx="201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TES-295 Fluid Required for Pro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Обновления в системе про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модели требую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Y09 TCM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калибровку 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ES-29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о для про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должны иметь поставляемы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зготовителем сервисный индикатор лампочку или текстовое сообщение передаваемое чере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J193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олжны включать провод датчика давления от АКПП к ТС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354560" y="2008080"/>
            <a:ext cx="4648320" cy="3942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317840" y="1932120"/>
            <a:ext cx="174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Filter Life Indicator Valv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Body and Pressure Sw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Channel Plate and Gas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Main Valve 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Internal Wiring Har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olenoid 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6"/>
          <p:cNvSpPr/>
          <p:nvPr/>
        </p:nvSpPr>
        <p:spPr>
          <a:xfrm flipH="1">
            <a:off x="4919760" y="4245120"/>
            <a:ext cx="473040" cy="88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177520" y="1647720"/>
            <a:ext cx="28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3000/4000 Control  Valve Body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4510800" y="5127480"/>
            <a:ext cx="131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ervice Indi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6489720" y="5977080"/>
            <a:ext cx="201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TES-295 Fluid Required for Pro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Прогностика – Нормаль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67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ля проверки лампы, индикатор загорается на пол секунды когда заводим двигатель, после чего выключ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Если прогностика активирована индикатор загорается снова еще на 3 секун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703760" y="1517760"/>
            <a:ext cx="4276800" cy="44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5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Прогностика - Индик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344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я Монитора Службы мас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продолжает гореть 2 минуты после выбора режим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е Монитора Службы Филь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продолжает гореть 2 минуты после выбора режим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онитор состояния АКП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горит всё врем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14840" y="1866960"/>
            <a:ext cx="2847960" cy="395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Box 10"/>
          <p:cNvSpPr/>
          <p:nvPr/>
        </p:nvSpPr>
        <p:spPr>
          <a:xfrm>
            <a:off x="7497720" y="22320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il Life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497720" y="35496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lter Life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7497720" y="483408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ransmission Health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Ма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рамет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ы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ыходные вра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тота переключ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ключения замедлите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е сроки замены мас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59480" y="2025720"/>
            <a:ext cx="4190760" cy="313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8" name="Picture 13" descr="swfButt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Ма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срок службы масла достигае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% (1000/2000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1% (3000/400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горается лампа неисправности АКПП и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97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является если замена не была произвед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нитор должен быть перезагружен после замены мас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59480" y="2025720"/>
            <a:ext cx="4190760" cy="313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фильт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489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давление масла выходящее из фильтра падает ниже установленного знач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е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лавный фильтр 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тролирующий главный фильт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8A  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олько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)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ампа проверки АКПП не загораетс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8B Check Trans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горается если фильтр не был заменё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ют датчик давления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ть обновления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Y09 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ют высчитываемые знач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6016680" y="1517760"/>
            <a:ext cx="2531880" cy="4133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Rolf Oerter</cp:lastModifiedBy>
  <dcterms:modified xsi:type="dcterms:W3CDTF">2024-06-25T17:14:29Z</dcterms:modified>
  <cp:revision>378</cp:revision>
  <dc:subject/>
  <dc:title>Introduction</dc:title>
</cp:coreProperties>
</file>