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E77D-B6DE-4FAB-BD58-4655E81FD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CAC3-3D57-4C6F-B277-0C30C0F669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F9CD-4A00-4F5D-BA78-5D8D1381C0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9336-52ED-4E62-8D9A-BD2EB25F6B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6171-CEE5-4C8D-9316-6D3CC0E538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69A0-8269-4C21-BA0F-3F89D0CB5C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901E-9BF2-4CC7-9EE2-5B8879A2F4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5B71-4CC8-438E-8BEF-84A93F1A7C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4A49-D6DA-4758-806E-5FBFBBAA3A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C085-37E9-4CF8-8807-2CE984118D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B573-C752-430D-953D-C74D35B754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B18D-03C4-4CD0-AA60-F4F20E845D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358F-FB46-4799-8969-009C47C09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2A6B-7D42-42DA-8C19-D3AD42EE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C2E0-D14E-4DB1-9218-D6BA341D0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B314-26AB-4856-98B1-129AAD60A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70A3-8D31-4340-AB3B-8EE129E3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DEEF-5AC9-4ACF-BB30-823E18D7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DE70-3400-4967-B58D-CDDBD2E7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2C0E-1951-456A-9C63-BF2CFFA4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1DA0-EB78-4C5A-9A1A-319E8AD0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F15A-676B-4FD8-ADD1-3F00A5BA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2744-FF4A-4394-8436-5131C8FC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76B2-AD2F-45D9-BB5A-E7FFF720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B3F0-7689-40BB-9D4B-F1C788450B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" descr="10K_ILT_Bkgd102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TextBox 7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D435-F87F-490F-B319-01F9285BA245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hyperlink" Target="file:///resources/MY09/ppts/ResourceGraphic-5.ppt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914040"/>
            <a:ext cx="853452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bfbf"/>
                </a:solidFill>
                <a:latin typeface="Arial"/>
                <a:ea typeface="Arial"/>
              </a:rPr>
              <a:t>Введ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1447560"/>
            <a:ext cx="3406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Год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9 (MY09)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РОГНОСТИК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Срок службы масл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Срок службы фильтр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Состояние АКПП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рогностика доступна н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000/2000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000/400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3" descr="swfButton.png"/>
          <p:cNvPicPr/>
          <p:nvPr/>
        </p:nvPicPr>
        <p:blipFill>
          <a:blip r:embed="rId1"/>
          <a:stretch/>
        </p:blipFill>
        <p:spPr>
          <a:xfrm>
            <a:off x="571680" y="6172200"/>
            <a:ext cx="1333440" cy="285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6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llison Model Year 09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4262400" y="1517760"/>
            <a:ext cx="4686480" cy="4562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5" name="Picture 13" descr="swfButton.png"/>
          <p:cNvPicPr/>
          <p:nvPr/>
        </p:nvPicPr>
        <p:blipFill>
          <a:blip r:embed="rId3"/>
          <a:stretch/>
        </p:blipFill>
        <p:spPr>
          <a:xfrm>
            <a:off x="186696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swfButton.png"/>
          <p:cNvPicPr/>
          <p:nvPr/>
        </p:nvPicPr>
        <p:blipFill>
          <a:blip r:embed="rId4"/>
          <a:stretch/>
        </p:blipFill>
        <p:spPr>
          <a:xfrm>
            <a:off x="3075120" y="6172200"/>
            <a:ext cx="133344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914040"/>
            <a:ext cx="853452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bfbf"/>
                </a:solidFill>
                <a:latin typeface="Arial"/>
                <a:ea typeface="Arial"/>
              </a:rPr>
              <a:t>Монитор состояния АКП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762120" y="1447560"/>
            <a:ext cx="489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ндикатор загорается когда износ муфт превышает допустимые знач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Система использует адаптационную информацию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Отслеживает муфты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1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5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Появляется ко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DTC P278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(Clutch Adaptive Learning At Limit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13" descr="swfButton.png"/>
          <p:cNvPicPr/>
          <p:nvPr/>
        </p:nvPicPr>
        <p:blipFill>
          <a:blip r:embed="rId1"/>
          <a:stretch/>
        </p:blipFill>
        <p:spPr>
          <a:xfrm>
            <a:off x="571680" y="6172200"/>
            <a:ext cx="1333440" cy="2858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8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llison Model Year 09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3" descr="swfButton.png"/>
          <p:cNvPicPr/>
          <p:nvPr/>
        </p:nvPicPr>
        <p:blipFill>
          <a:blip r:embed="rId2"/>
          <a:stretch/>
        </p:blipFill>
        <p:spPr>
          <a:xfrm>
            <a:off x="193212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3"/>
          <a:stretch/>
        </p:blipFill>
        <p:spPr>
          <a:xfrm>
            <a:off x="6016680" y="1517760"/>
            <a:ext cx="2609640" cy="41432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914040"/>
            <a:ext cx="853452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bfbf"/>
                </a:solidFill>
                <a:latin typeface="Arial"/>
                <a:ea typeface="Arial"/>
              </a:rPr>
              <a:t>Диагностика и перезагрузка Переключател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761760" y="1314360"/>
            <a:ext cx="40194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3000/40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ереключатели могут показывать информацию о прогностике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На кнопочных переключателях, нажмите стрелки вверх и вниз одновременно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На рычажном нажмите диагностическую кнопк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Если запрограмированно, Срок службы Масла и Фильтров может быть перезагруже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3000/4000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могут быть перезагружены кнопкой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od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На всех АКПП может быть перезагружены определенными последовательностями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13" descr="swfButton.png"/>
          <p:cNvPicPr/>
          <p:nvPr/>
        </p:nvPicPr>
        <p:blipFill>
          <a:blip r:embed="rId1"/>
          <a:stretch/>
        </p:blipFill>
        <p:spPr>
          <a:xfrm>
            <a:off x="571680" y="6172200"/>
            <a:ext cx="1333440" cy="2858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8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llison Model Year 09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4865760" y="1855800"/>
            <a:ext cx="3809880" cy="30463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20" name="TextBox 10"/>
          <p:cNvSpPr/>
          <p:nvPr/>
        </p:nvSpPr>
        <p:spPr>
          <a:xfrm>
            <a:off x="5346720" y="1562040"/>
            <a:ext cx="3514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"/>
              </a:rPr>
              <a:t>NOTE: Reset only allowed if programm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4781520" y="4935600"/>
            <a:ext cx="2054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NOTE: Transmission Health Monitor resets automatically when appropriate conditions are detected and can only be manually reset using Allison DOC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2"/>
          <p:cNvSpPr/>
          <p:nvPr/>
        </p:nvSpPr>
        <p:spPr>
          <a:xfrm>
            <a:off x="6946920" y="4937040"/>
            <a:ext cx="20559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NOTE: 3000/4000 Product Families Filter Life Monitor resets automatically when appropriate conditions are detect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3" descr="swfButton.png"/>
          <p:cNvPicPr/>
          <p:nvPr/>
        </p:nvPicPr>
        <p:blipFill>
          <a:blip r:embed="rId3"/>
          <a:stretch/>
        </p:blipFill>
        <p:spPr>
          <a:xfrm>
            <a:off x="185580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swfButton.png"/>
          <p:cNvPicPr/>
          <p:nvPr/>
        </p:nvPicPr>
        <p:blipFill>
          <a:blip r:embed="rId4"/>
          <a:stretch/>
        </p:blipFill>
        <p:spPr>
          <a:xfrm>
            <a:off x="311940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3" descr="swfButton.png"/>
          <p:cNvPicPr/>
          <p:nvPr/>
        </p:nvPicPr>
        <p:blipFill>
          <a:blip r:embed="rId5"/>
          <a:stretch/>
        </p:blipFill>
        <p:spPr>
          <a:xfrm>
            <a:off x="4392720" y="6172200"/>
            <a:ext cx="133344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914040"/>
            <a:ext cx="853452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bfbf"/>
                </a:solidFill>
                <a:latin typeface="Arial"/>
                <a:ea typeface="Arial"/>
              </a:rPr>
              <a:t>Введ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61760" y="1447560"/>
            <a:ext cx="3406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аличие сервисного индикато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3000/4000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это значок «ключа» на переключател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1000/2000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индикатором служит лампочка или текстовое сообщение на приборной панели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llison Model Year 09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4262400" y="1517760"/>
            <a:ext cx="4686480" cy="4562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914040"/>
            <a:ext cx="853452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bfbf"/>
                </a:solidFill>
                <a:latin typeface="Arial"/>
                <a:ea typeface="Arial"/>
              </a:rPr>
              <a:t>Обновления в системе Прогност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761760" y="1447560"/>
            <a:ext cx="3406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000/2000/3000/4000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меют обновленные ТСМ и калибровк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Схема проводки так же была изменен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000/4000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меют обновленные переключатели блок клапан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llison Model Year 09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4354560" y="2008080"/>
            <a:ext cx="4648320" cy="3942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swfButton.png"/>
          <p:cNvPicPr/>
          <p:nvPr/>
        </p:nvPicPr>
        <p:blipFill>
          <a:blip r:embed="rId2"/>
          <a:stretch/>
        </p:blipFill>
        <p:spPr>
          <a:xfrm>
            <a:off x="57168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swfButton.png"/>
          <p:cNvPicPr/>
          <p:nvPr/>
        </p:nvPicPr>
        <p:blipFill>
          <a:blip r:embed="rId3"/>
          <a:stretch/>
        </p:blipFill>
        <p:spPr>
          <a:xfrm>
            <a:off x="1866960" y="6172200"/>
            <a:ext cx="1333440" cy="28584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4317840" y="1932120"/>
            <a:ext cx="174492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00"/>
                </a:solidFill>
                <a:latin typeface="Arial"/>
              </a:rPr>
              <a:t>-Filter Life Indicator Valve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ffff00"/>
                </a:solidFill>
                <a:latin typeface="Arial"/>
              </a:rPr>
              <a:t>Body and Pressure Swit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00"/>
                </a:solidFill>
                <a:latin typeface="Arial"/>
              </a:rPr>
              <a:t>-Channel Plate and Gask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00"/>
                </a:solidFill>
                <a:latin typeface="Arial"/>
              </a:rPr>
              <a:t>-Separator Pl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00"/>
                </a:solidFill>
                <a:latin typeface="Arial"/>
              </a:rPr>
              <a:t>-Main Valve Bod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00"/>
                </a:solidFill>
                <a:latin typeface="Arial"/>
              </a:rPr>
              <a:t>-Internal Wiring Harn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00"/>
                </a:solidFill>
                <a:latin typeface="Arial"/>
              </a:rPr>
              <a:t>-Solenoid Separator Pl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6"/>
          <p:cNvSpPr/>
          <p:nvPr/>
        </p:nvSpPr>
        <p:spPr>
          <a:xfrm flipH="1">
            <a:off x="4919760" y="4245120"/>
            <a:ext cx="473040" cy="882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9"/>
          <p:cNvSpPr/>
          <p:nvPr/>
        </p:nvSpPr>
        <p:spPr>
          <a:xfrm>
            <a:off x="5177520" y="1647720"/>
            <a:ext cx="2805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"/>
              </a:rPr>
              <a:t>3000/4000 Control  Valve Body Upda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0"/>
          <p:cNvSpPr/>
          <p:nvPr/>
        </p:nvSpPr>
        <p:spPr>
          <a:xfrm>
            <a:off x="4510800" y="5127480"/>
            <a:ext cx="1311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"/>
              </a:rPr>
              <a:t>Service Indicat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1"/>
          <p:cNvSpPr/>
          <p:nvPr/>
        </p:nvSpPr>
        <p:spPr>
          <a:xfrm>
            <a:off x="6489720" y="5977080"/>
            <a:ext cx="2016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"/>
              </a:rPr>
              <a:t>NOTE: TES-295 Fluid Required for Prognostic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914040"/>
            <a:ext cx="853452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bfbf"/>
                </a:solidFill>
                <a:latin typeface="Arial"/>
                <a:ea typeface="Arial"/>
              </a:rPr>
              <a:t>Обновления в системе прогност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761760" y="1447560"/>
            <a:ext cx="3406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се модели требуют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Y09 TCM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 калибровку 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TES-295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асло для прогност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1000/2000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должны иметь поставляемый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изготовителем сервисный индикатор лампочку или текстовое сообщение передаваемое через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J1939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3000/4000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Должны включать провод датчика давления от АКПП к ТСМ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llison Model Year 09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4354560" y="2008080"/>
            <a:ext cx="4648320" cy="3942000"/>
          </a:xfrm>
          <a:prstGeom prst="rect">
            <a:avLst/>
          </a:prstGeom>
          <a:ln w="0">
            <a:noFill/>
          </a:ln>
        </p:spPr>
      </p:pic>
      <p:sp>
        <p:nvSpPr>
          <p:cNvPr id="76" name="TextBox 4"/>
          <p:cNvSpPr/>
          <p:nvPr/>
        </p:nvSpPr>
        <p:spPr>
          <a:xfrm>
            <a:off x="4317840" y="1932120"/>
            <a:ext cx="174492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00"/>
                </a:solidFill>
                <a:latin typeface="Arial"/>
              </a:rPr>
              <a:t>-Filter Life Indicator Valve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ffff00"/>
                </a:solidFill>
                <a:latin typeface="Arial"/>
              </a:rPr>
              <a:t>Body and Pressure Swit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00"/>
                </a:solidFill>
                <a:latin typeface="Arial"/>
              </a:rPr>
              <a:t>-Channel Plate and Gask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00"/>
                </a:solidFill>
                <a:latin typeface="Arial"/>
              </a:rPr>
              <a:t>-Separator Pl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00"/>
                </a:solidFill>
                <a:latin typeface="Arial"/>
              </a:rPr>
              <a:t>-Main Valve Bod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00"/>
                </a:solidFill>
                <a:latin typeface="Arial"/>
              </a:rPr>
              <a:t>-Internal Wiring Harn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00"/>
                </a:solidFill>
                <a:latin typeface="Arial"/>
              </a:rPr>
              <a:t>-Solenoid Separator Pl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traight Connector 6"/>
          <p:cNvSpPr/>
          <p:nvPr/>
        </p:nvSpPr>
        <p:spPr>
          <a:xfrm flipH="1">
            <a:off x="4919760" y="4245120"/>
            <a:ext cx="473040" cy="882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9"/>
          <p:cNvSpPr/>
          <p:nvPr/>
        </p:nvSpPr>
        <p:spPr>
          <a:xfrm>
            <a:off x="5177520" y="1647720"/>
            <a:ext cx="2805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"/>
              </a:rPr>
              <a:t>3000/4000 Control  Valve Body Upda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0"/>
          <p:cNvSpPr/>
          <p:nvPr/>
        </p:nvSpPr>
        <p:spPr>
          <a:xfrm>
            <a:off x="4510800" y="5127480"/>
            <a:ext cx="1311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"/>
              </a:rPr>
              <a:t>Service Indicat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1"/>
          <p:cNvSpPr/>
          <p:nvPr/>
        </p:nvSpPr>
        <p:spPr>
          <a:xfrm>
            <a:off x="6489720" y="5977080"/>
            <a:ext cx="2016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"/>
              </a:rPr>
              <a:t>NOTE: TES-295 Fluid Required for Prognostic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914040"/>
            <a:ext cx="853452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bfbf"/>
                </a:solidFill>
                <a:latin typeface="Arial"/>
                <a:ea typeface="Arial"/>
              </a:rPr>
              <a:t>Прогностика – Нормальная рабо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61760" y="1447560"/>
            <a:ext cx="3679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Для проверки лампы, индикатор загорается на пол секунды когда заводим двигатель, после чего выключает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Если прогностика активирована индикатор загорается снова еще на 3 секунд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llison Model Year 09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4703760" y="1517760"/>
            <a:ext cx="4276800" cy="44575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85" name="Picture 13" descr="swfButton.png"/>
          <p:cNvPicPr/>
          <p:nvPr/>
        </p:nvPicPr>
        <p:blipFill>
          <a:blip r:embed="rId2"/>
          <a:stretch/>
        </p:blipFill>
        <p:spPr>
          <a:xfrm>
            <a:off x="571680" y="6172200"/>
            <a:ext cx="133344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914040"/>
            <a:ext cx="853452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bfbf"/>
                </a:solidFill>
                <a:latin typeface="Arial"/>
                <a:ea typeface="Arial"/>
              </a:rPr>
              <a:t>Прогностика - Индикат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62120" y="1447560"/>
            <a:ext cx="3440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редупреждения Монитора Службы масл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Индикатор продолжает гореть 2 минуты после выбора режима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редупреждение Монитора Службы Фильтр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Индикатор продолжает гореть 2 минуты после выбора режима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Монитор состояния АКП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Индикатор горит всё время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llison Model Year 09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4614840" y="1866960"/>
            <a:ext cx="2847960" cy="39513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90" name="TextBox 10"/>
          <p:cNvSpPr/>
          <p:nvPr/>
        </p:nvSpPr>
        <p:spPr>
          <a:xfrm>
            <a:off x="7497720" y="2232000"/>
            <a:ext cx="164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il Life Moni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1"/>
          <p:cNvSpPr/>
          <p:nvPr/>
        </p:nvSpPr>
        <p:spPr>
          <a:xfrm>
            <a:off x="7497720" y="3549600"/>
            <a:ext cx="164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Filter Life Moni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7497720" y="4834080"/>
            <a:ext cx="164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Transmission Health Moni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914040"/>
            <a:ext cx="853452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bfbf"/>
                </a:solidFill>
                <a:latin typeface="Arial"/>
                <a:ea typeface="Arial"/>
              </a:rPr>
              <a:t>Монитор срока Службы Мас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1760" y="1447560"/>
            <a:ext cx="3406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араметр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Часы работ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Выходные вращ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Частота переключен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Включения замедлител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алендарные сроки замены масл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3" descr="swfButton.png"/>
          <p:cNvPicPr/>
          <p:nvPr/>
        </p:nvPicPr>
        <p:blipFill>
          <a:blip r:embed="rId1"/>
          <a:stretch/>
        </p:blipFill>
        <p:spPr>
          <a:xfrm>
            <a:off x="571680" y="6172200"/>
            <a:ext cx="1333440" cy="285840"/>
          </a:xfrm>
          <a:prstGeom prst="rect">
            <a:avLst/>
          </a:prstGeom>
          <a:ln w="0">
            <a:noFill/>
          </a:ln>
        </p:spPr>
      </p:pic>
      <p:sp>
        <p:nvSpPr>
          <p:cNvPr id="96" name="TextBox 8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llison Model Year 09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4659480" y="2025720"/>
            <a:ext cx="4190760" cy="3133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98" name="Picture 13" descr="swfButton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32120" y="6172200"/>
            <a:ext cx="133344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14040"/>
            <a:ext cx="853452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bfbf"/>
                </a:solidFill>
                <a:latin typeface="Arial"/>
                <a:ea typeface="Arial"/>
              </a:rPr>
              <a:t>Монитор срока Службы Мас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1760" y="1447560"/>
            <a:ext cx="3406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ндикатор загорается когда срок службы масла достигает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% (1000/2000)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л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1% (3000/400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Загорается лампа неисправности АКПП и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TC P0897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появляется если замена не была произведе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онитор должен быть перезагружен после замены масл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llison Model Year 09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4659480" y="2025720"/>
            <a:ext cx="4190760" cy="3133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914040"/>
            <a:ext cx="853452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bfbf"/>
                </a:solidFill>
                <a:latin typeface="Arial"/>
                <a:ea typeface="Arial"/>
              </a:rPr>
              <a:t>Монитор срока службы фильтр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762120" y="1447560"/>
            <a:ext cx="489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ндикатор загорается когда давление масла выходящее из фильтра падает ниже установленного значени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Использует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3000/4000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главный фильтр и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1000/2000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контролирующий главный фильтр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TC P088A  (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только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3000/4000 )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лампа проверки АКПП не загорается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TC P088B Check Trans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загорается если фильтр не был заменён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3000/4000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Используют датчик давления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часть обновления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Y09 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1000/2000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используют высчитываемые значе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3" descr="swfButton.png"/>
          <p:cNvPicPr/>
          <p:nvPr/>
        </p:nvPicPr>
        <p:blipFill>
          <a:blip r:embed="rId1"/>
          <a:stretch/>
        </p:blipFill>
        <p:spPr>
          <a:xfrm>
            <a:off x="571680" y="6172200"/>
            <a:ext cx="1333440" cy="2858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8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llison Model Year 09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3" descr="swfButton.png"/>
          <p:cNvPicPr/>
          <p:nvPr/>
        </p:nvPicPr>
        <p:blipFill>
          <a:blip r:embed="rId2"/>
          <a:stretch/>
        </p:blipFill>
        <p:spPr>
          <a:xfrm>
            <a:off x="193212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3"/>
          <a:stretch/>
        </p:blipFill>
        <p:spPr>
          <a:xfrm>
            <a:off x="6016680" y="1517760"/>
            <a:ext cx="2531880" cy="41338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6:05:24Z</dcterms:created>
  <dc:creator>Ron</dc:creator>
  <dc:description/>
  <dc:language>en-US</dc:language>
  <cp:lastModifiedBy>Rolf Oerter</cp:lastModifiedBy>
  <dcterms:modified xsi:type="dcterms:W3CDTF">2024-06-24T13:39:10Z</dcterms:modified>
  <cp:revision>377</cp:revision>
  <dc:subject/>
  <dc:title>Introduction</dc:title>
</cp:coreProperties>
</file>